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DE35-8FCF-4029-A8B7-E3F9CE013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EA14-33D6-4AFB-BCF3-68BBFA17B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E356-7B0E-4A83-8CFC-A6DD5C501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5ABC-F6DF-42EB-B622-C792C3828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48503-D564-4792-9A6D-A68025B6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1A027-62E7-4711-8021-66C32362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8ABD6-BD15-42AC-8CBC-695EAF7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7E939-91F6-4AC5-8446-E7D1ABF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FC5CF-132D-46F7-9FCE-1DF985E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2E65-A501-4F18-A45C-58F6207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BFF9C-8663-4A54-955B-D92F2AA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02FF-8D05-4A14-8837-523231F76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B8D39-30E3-4BFC-B42E-1AA410B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5D44-26B5-4E96-B279-551B9BA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485B1-3E90-4FB1-818F-5231FA8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38FC2-CEAB-41E8-B88B-E9138F95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0CD1-4FC9-4363-9E86-946DE570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A104-270E-478F-A4A2-A06284FDC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876C-3B08-4A22-B423-B1F6312F4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80E0-F606-461A-83B5-B89A1EDF5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16C0-D810-42D1-BBBF-42ECB6718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D682-1A68-47BB-9B24-F8317F473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CB18-FF5E-4BD4-B331-345B36C40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3DD0-7220-4706-87D6-16E744480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502240" y="6629040"/>
            <a:ext cx="298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Jacques Bouchez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4520" y="16668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-330120" y="-5144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C1E-772B-4FBE-8D8F-143F0AC1A6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1970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2768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4560" y="283212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857680"/>
            <a:ext cx="32040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9000" y="285768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78136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4228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240" y="1574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5360" y="1625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790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84600" y="15494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5746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65096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1200" y="181620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0800" y="22352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45240" y="1346040"/>
            <a:ext cx="6654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adioactive Beam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uclear and Neutrino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es Arcs 17-22 Mars 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55560" y="3495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CACA-EF1D-46BF-BCD2-2AC800723F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5360" y="239760"/>
            <a:ext cx="8804520" cy="592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57720" y="5776920"/>
            <a:ext cx="26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E : 250 MeV 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312F-EFF9-4851-8CC3-51303B1BD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2563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r detector in second ph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852" t="10234" r="10191" b="12423"/>
          <a:stretch/>
        </p:blipFill>
        <p:spPr>
          <a:xfrm>
            <a:off x="1951200" y="1341360"/>
            <a:ext cx="7192800" cy="465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900000" y="3141720"/>
          <a:ext cx="95580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141720"/>
                    <a:ext cx="9558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21337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Phase-I: Super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256536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22.5kt (50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56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ＭＳ Ｐゴシック"/>
              </a:rPr>
              <a:t>Phase-II: 1,000 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6240" y="25560"/>
            <a:ext cx="59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 to the size of large underground Water Ch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ctors will be given by the difficulties of excav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x width is about 50-60 meters.=&gt; increase high&amp;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696A-213B-451C-8471-1ADDC60D26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 Background Rej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1504800"/>
            <a:ext cx="4219920" cy="459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4572000" y="1501920"/>
            <a:ext cx="4219560" cy="459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15920" y="950760"/>
            <a:ext cx="663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/mu separation directly related to granularity of co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mit is around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u decay in flight)  SKII coverage OKOK,  less mayb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77EA-F5C2-40F2-AF41-35D8881C7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A B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6440" y="1033560"/>
            <a:ext cx="659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idea by P. Zucchel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++, store, accelerate (100 GeV/u)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2362320"/>
            <a:ext cx="33962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=3.5078 MeV T/2  = 0.8067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anti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4240" y="37368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41440" y="4095720"/>
                <a:ext cx="35481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259240" y="440676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720" y="4876920"/>
            <a:ext cx="823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cillation signal: appearance of low energy mu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opposite charge neutrinos=&gt; no need for magnetic 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tle matter effects at these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water Cerenkov excellent for this too, same as for Superb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seems feasible; but cost unknown so far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ritical: duty cycle.                                                 A nice *** idea to be followed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330280"/>
            <a:ext cx="336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+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552760"/>
            <a:ext cx="152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6605-719F-4807-BDFA-94FBB1D28B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86080" y="171360"/>
            <a:ext cx="4003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a Bea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. Zucchel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6280" y="1398600"/>
          <a:ext cx="6399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398600"/>
                    <a:ext cx="6399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59600" y="587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 Lindroos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1584-A92C-4923-A0F1-81F54790B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82720" y="2826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ation of beta beam with low energy supe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785880"/>
            <a:ext cx="601524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que to CER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few 100 GeV accelerator (PS + SPS will do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rience in radioactive beams at ISOL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y unknowns: what is the duty factor that can be achieved? (needs &lt;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s CP and T violation te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0180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468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1400" y="438480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3718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200" y="579276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an this work????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920880"/>
            <a:ext cx="2329200" cy="253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128520" y="3470400"/>
            <a:ext cx="2363760" cy="25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649C-F39C-412A-8F71-BCD3DFC0BA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4960" y="509760"/>
            <a:ext cx="8637840" cy="6013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3160" y="0"/>
            <a:ext cx="81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ation of Beta beam and superbeam is in the same ballpark of performance as neutrino factory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ewrare of systematics for low Energy neutrino events, though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2800" y="631044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Times New Roman"/>
              </a:rPr>
              <a:t>M.Mezzetto, CERN workshop NNN02, 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1400" y="3122640"/>
            <a:ext cx="1425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lowest LMA.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D94F-C975-45A9-BD3D-1DEB0C2272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23640" y="16812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OUTCOME OF THE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8040" y="866880"/>
            <a:ext cx="709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New ideas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for the beta bea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Pulsed ECR source for easier bunch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Ne18 production multilplied by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Simultaneous operation with Ne18 and He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Importance of low energy beta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160" y="3381480"/>
            <a:ext cx="69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Beta beams studies to be incorporated 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additional work package of EUR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Driver compatibility needs mor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53784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An interdisciplinary community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emerged around the beta beam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C557-B276-4148-834A-2B7D9F6DB9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9880" y="4303800"/>
            <a:ext cx="6272280" cy="1798920"/>
          </a:xfrm>
          <a:prstGeom prst="rect">
            <a:avLst/>
          </a:prstGeom>
          <a:solidFill>
            <a:srgbClr val="ffff99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0720" y="976320"/>
            <a:ext cx="7347240" cy="2012040"/>
          </a:xfrm>
          <a:prstGeom prst="rect">
            <a:avLst/>
          </a:prstGeom>
          <a:solidFill>
            <a:srgbClr val="ffcccc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 (superbeam/neutrino fa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280" y="4938840"/>
            <a:ext cx="156744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isol production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rare ions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0000" y="4414680"/>
            <a:ext cx="3547080" cy="307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betabeam acceleration to 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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(CER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3320" y="139536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4 MW target s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1382760"/>
            <a:ext cx="1657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llection,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3320" y="2513160"/>
            <a:ext cx="14796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o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2360520"/>
            <a:ext cx="245736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uon acceleration and stor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6600" y="2475000"/>
            <a:ext cx="2457360" cy="67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 proton/H</a:t>
            </a:r>
            <a:r>
              <a:rPr b="1" lang="fr-CH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dri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clear-synergy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7800" y="3451320"/>
            <a:ext cx="106920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A : 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73800" y="3631680"/>
            <a:ext cx="139680" cy="660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124080"/>
            <a:ext cx="533160" cy="3430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23880" y="3098880"/>
            <a:ext cx="12960" cy="13078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53920" y="3962520"/>
            <a:ext cx="1969920" cy="307080"/>
          </a:xfrm>
          <a:prstGeom prst="rect">
            <a:avLst/>
          </a:prstGeom>
          <a:solidFill>
            <a:srgbClr val="ccffcc"/>
          </a:solidFill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Large cavern and 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3625920"/>
            <a:ext cx="533160" cy="342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600" y="164952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ton drive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86080" y="5400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Design studies (preliminary though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36760" y="4884840"/>
            <a:ext cx="9687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Driver  </a:t>
            </a:r>
            <a:r>
              <a:rPr b="1" lang="fr-CH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6120" y="5608800"/>
            <a:ext cx="14227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ost-accel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360" y="5037120"/>
            <a:ext cx="14605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ass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3240" y="5634000"/>
            <a:ext cx="1162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5 MW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7120" y="5672160"/>
            <a:ext cx="21618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Scientific instr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4C0-A17B-4BF0-AF14-5BC74D16F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6840" y="1434960"/>
            <a:ext cx="355320" cy="203220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3492360"/>
            <a:ext cx="80899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26360" y="1460520"/>
            <a:ext cx="355320" cy="203184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149640"/>
            <a:ext cx="3733920" cy="342720"/>
          </a:xfrm>
          <a:prstGeom prst="rect">
            <a:avLst/>
          </a:prstGeom>
          <a:solidFill>
            <a:srgbClr val="ffcc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8440" y="255096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s accelerated to 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spallation sourc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3360" y="646200"/>
            <a:ext cx="101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NuF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7600" y="3797280"/>
            <a:ext cx="48132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0920" y="38466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87320" y="672840"/>
            <a:ext cx="0" cy="28191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320" y="121752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280" y="140976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280" y="313704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8640" y="28558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7880" y="4532400"/>
            <a:ext cx="34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total power at 2.2 GeV 4 MW X 2 = 8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9040" y="3137040"/>
            <a:ext cx="88920" cy="355320"/>
          </a:xfrm>
          <a:prstGeom prst="rect">
            <a:avLst/>
          </a:prstGeom>
          <a:solidFill>
            <a:srgbClr val="99ff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2240" y="2624040"/>
            <a:ext cx="7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1240" y="2882880"/>
            <a:ext cx="6336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D040-BE65-4796-9AB6-5C8A2FFD40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9720" y="149400"/>
            <a:ext cx="49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Aim of the worksho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480" y="118440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Bring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uclear physicists (EURISOL communit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eutrino physicists (interested in superbeams 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beta beams to study neutrino mix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and machine scient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To determine the possible synergies between their respe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and hopefully propose coordinated design studies to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1F91-D211-4AEF-8861-7EFB9DB28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520" y="87480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posal by A.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920" y="1941480"/>
            <a:ext cx="1041840" cy="307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080" y="3224160"/>
            <a:ext cx="979200" cy="307080"/>
          </a:xfrm>
          <a:prstGeom prst="rect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320" y="1471680"/>
            <a:ext cx="81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a litle group of people goes to brussels to talk to Brussels ans ask if the B-typ synergy is acceptable or n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6080" y="2347920"/>
            <a:ext cx="2105640" cy="307080"/>
          </a:xfrm>
          <a:prstGeom prst="rect">
            <a:avLst/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 normal working p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2520" y="3645000"/>
            <a:ext cx="236916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 normal working pack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8440" y="2716200"/>
            <a:ext cx="576612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+1 Looks into production and post-aceleration of beta beam up to g=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95920" y="4100400"/>
            <a:ext cx="500436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+1 looks into the synergy of SPL with the nuclear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8314-32FE-43CB-9E29-FA4CE994A6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beam &amp;  Beta Beam  cost estimates (NUFACT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1371600"/>
          <a:ext cx="86868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6204-5CA8-4A8F-B346-97582511FE55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268280"/>
            <a:ext cx="8991360" cy="500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440" y="187200"/>
            <a:ext cx="42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EXOTIC NUCL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9CE2-3CCE-4968-83CE-ED68C5B5B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4600" y="0"/>
            <a:ext cx="8794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00"/>
                </a:solidFill>
                <a:latin typeface="Times New Roman"/>
              </a:rPr>
              <a:t>EURIS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AFE5-A41B-4A20-9FA8-0A0D4B0DC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07880" y="34308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utrino mixing matrix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angles and a phas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8320" y="5051520"/>
            <a:ext cx="4562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 or poorly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after approved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,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2600" y="735120"/>
            <a:ext cx="517500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64000" y="26780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1000" y="12574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1000" y="214632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1000" y="224784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8760" y="123192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0" y="0"/>
                </a:moveTo>
                <a:lnTo>
                  <a:pt x="1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8760" y="209556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4720" y="144288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71040" y="203976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42292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1000" y="335268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1000" y="347976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7320" y="200484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4720" y="181440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9763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5480" y="32367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22880" y="30337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1040" y="389736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" y="3981600"/>
            <a:ext cx="5186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tmospheric) = 4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olar) = 3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hooz) &lt; 1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4314960" cy="180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94240" y="57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8960" y="328464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1040" y="383076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96160" y="3467160"/>
            <a:ext cx="1440" cy="749160"/>
          </a:xfrm>
          <a:custGeom>
            <a:avLst/>
            <a:gdLst/>
            <a:ahLst/>
            <a:rect l="l" t="t" r="r" b="b"/>
            <a:pathLst>
              <a:path w="1" h="472">
                <a:moveTo>
                  <a:pt x="0" y="0"/>
                </a:moveTo>
                <a:lnTo>
                  <a:pt x="0" y="4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6160" y="3301920"/>
            <a:ext cx="1440" cy="1778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1" y="1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4349-BBE7-45BC-A22A-D4255C8173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374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39080" y="3949560"/>
            <a:ext cx="196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ff6600"/>
                </a:solidFill>
                <a:latin typeface="Times New Roman"/>
              </a:rPr>
              <a:t>C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181480" y="4470480"/>
            <a:ext cx="3530880" cy="1440"/>
          </a:xfrm>
          <a:custGeom>
            <a:avLst/>
            <a:gdLst/>
            <a:ahLst/>
            <a:rect l="l" t="t" r="r" b="b"/>
            <a:pathLst>
              <a:path w="2224" h="1">
                <a:moveTo>
                  <a:pt x="0" y="0"/>
                </a:moveTo>
                <a:lnTo>
                  <a:pt x="2224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080" y="4467240"/>
            <a:ext cx="27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</a:t>
            </a:r>
            <a:r>
              <a:rPr b="1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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olar ter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9440" y="4008600"/>
            <a:ext cx="35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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/4E)   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240" y="5100480"/>
            <a:ext cx="89604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large valu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LMA) but *not* large si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APPEARANCE 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ime reversal symmetric (reactors or sun are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1800" spc="-1" strike="noStrike">
                <a:solidFill>
                  <a:srgbClr val="ff031e"/>
                </a:solidFill>
                <a:latin typeface="Times New Roman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30%) for suppressed channel (one small angle vs two lar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wavelength at which ‘solar’ (S)= ‘atmospheric’ (A) and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ymmetry is opposite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ff99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840" y="4483080"/>
            <a:ext cx="3073320" cy="1440"/>
          </a:xfrm>
          <a:custGeom>
            <a:avLst/>
            <a:gdLst/>
            <a:ahLst/>
            <a:rect l="l" t="t" r="r" b="b"/>
            <a:pathLst>
              <a:path w="1936" h="1">
                <a:moveTo>
                  <a:pt x="0" y="0"/>
                </a:moveTo>
                <a:lnTo>
                  <a:pt x="193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8240" y="3879720"/>
            <a:ext cx="2788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5160" y="4514760"/>
            <a:ext cx="2935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044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472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416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8288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1280" y="773280"/>
            <a:ext cx="222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89000" y="-165240"/>
            <a:ext cx="9434520" cy="42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’ (S)  --  ‘Atmospheric’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1727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7398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BB6D-AFB5-4632-BA33-96F2B9B3BB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- Neutrino Factory -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N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4280" y="851040"/>
            <a:ext cx="77724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41880" y="4440240"/>
            <a:ext cx="160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417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33680" y="4775040"/>
            <a:ext cx="787320" cy="36864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4863960"/>
            <a:ext cx="520920" cy="45720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46280" y="5332320"/>
            <a:ext cx="947520" cy="58140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240" y="5202360"/>
            <a:ext cx="2492640" cy="9543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cillat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 giving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SIGN MU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13516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8120" y="2903400"/>
            <a:ext cx="28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=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9640" y="5138640"/>
            <a:ext cx="1606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1160" y="4224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8636-027B-4513-9A22-968A7E2F1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UPERBeam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7000" y="1459080"/>
            <a:ext cx="2118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0 Me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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contamination from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(no K at 2 GeV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078520"/>
            <a:ext cx="5959440" cy="1129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large underground water Cerenkov (400 kt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O/HyperK is best 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so : proton decay search, supernovae events solar and atmospheric neutr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3480" y="11268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sible step 0: Neutrino SUPER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360" y="425304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éjus underground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A357-C9D2-4D49-95D1-2DC55702F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: SPL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j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688000" cy="540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8579000">
            <a:off x="542880" y="2635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e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0600" y="5873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2997360"/>
            <a:ext cx="1368720" cy="3240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4000200">
            <a:off x="1355400" y="428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13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36960" y="1125360"/>
            <a:ext cx="4738680" cy="299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4" name=""/>
          <p:cNvSpPr/>
          <p:nvPr/>
        </p:nvSpPr>
        <p:spPr>
          <a:xfrm flipH="1">
            <a:off x="1547640" y="1106640"/>
            <a:ext cx="232416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068640"/>
            <a:ext cx="231624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4400" y="5661000"/>
            <a:ext cx="162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9560" y="1122480"/>
            <a:ext cx="1334520" cy="58140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95000" y="4195800"/>
            <a:ext cx="3727080" cy="1313640"/>
          </a:xfrm>
          <a:prstGeom prst="rect">
            <a:avLst/>
          </a:prstGeom>
          <a:solidFill>
            <a:srgbClr val="ccff33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 @ 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GeV, 50Hz, 2.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u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under R&amp;D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66D-806F-4A9E-BA9F-67CA5B0CF3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7:30:21Z</dcterms:created>
  <dc:creator>Alain Blondel</dc:creator>
  <dc:description/>
  <dc:language>en-US</dc:language>
  <cp:lastModifiedBy>bdl</cp:lastModifiedBy>
  <cp:lastPrinted>2001-11-08T10:22:42Z</cp:lastPrinted>
  <dcterms:modified xsi:type="dcterms:W3CDTF">2003-03-22T00:18:47Z</dcterms:modified>
  <cp:revision>152</cp:revision>
  <dc:subject/>
  <dc:title>Neutrino Physics</dc:title>
</cp:coreProperties>
</file>